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7CE-E0AD-4FB2-B03B-68FE46CB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1A3-6097-400B-B1CF-30C4AB35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5DE35-E716-46E2-BF07-A084DDF7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0F0FE-3353-480A-8F02-156DC43A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3C3E6-F30D-480D-9CC3-EB9B7288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1B90A-A36F-441C-A319-F49FA6E3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7C501-CA7E-4F3F-8D47-7A8C140B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490D3-2768-421D-A2B9-F9E0B1E3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A9BB0-3BE3-4FD3-9CCA-63F3B3C4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3AB5C-1555-4344-B300-2584F7E4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58963-EB96-49CA-9796-61135711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55C9-77F1-428C-85D7-6719A53F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73A-2154-449A-8480-A2954521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3607-C752-45B6-BB53-4F1A41D9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C8EF-85DE-4AEA-8FD3-6F46ECDD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6B86-0527-4E7E-B1B0-8B3A734A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29A8-00C0-4F76-9AC5-53C2075E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128D-F77B-458B-B875-519ABFFE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D082-A8E7-4167-B9A4-663C7DB7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1B5F-DC1A-4005-BAEF-37FDE7DA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7A48-107B-4ACC-A8E0-FB92075A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74D8-BCA3-4EF7-BFCD-359FF322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0A3D-281B-43E6-A42B-0BF05397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C007-B022-4DFF-AB60-09378623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3F91-A252-482D-8389-AECCC1BF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70A7-BCE7-4A69-9EDE-A5BCC48E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82C3A-4F9A-4301-851E-8CCD0691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3A061-12C1-437D-9922-D3025B0C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79368-A9CE-411B-8D22-27EB7921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43D40-E61A-49E7-8230-C51CDDC7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D2726-C6C0-44FF-9992-8574FE44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2BA-4E60-403F-A754-BAB39E9E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197A3-3F39-483A-9B28-21FFE0AB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92D54-811E-4609-90FE-134B2E80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62A31-DFAC-46A0-8605-5639A691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09005-7747-4F1C-8E9B-09498BE0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02C57-325D-4DE0-A353-28C0D6AF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4D9BD-7785-48EE-A797-550170E7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9875D-F2C7-4A2A-A086-F1A28D50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FF6D9-36CC-4DC0-A78A-293F9884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41153-683F-4E8D-B0BD-3BD7D995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23916-7A1C-4088-8A1A-4E19E84B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155-8DE0-4156-803D-26CF801E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BA6E2-6932-40EB-AF2C-E5D846C9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389CC-2ABC-484B-9ED1-D74BF43A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4430C-D516-4C37-BF89-3E88EAF8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A255C-76E6-459C-BDF6-2279884E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4F29B-D426-4753-BF69-33D4054D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F9DC0-F530-4055-94FF-89AB7C57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3B17A-0F1E-426A-A1D5-6E5B631F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CB777-F39A-4DF5-945F-A5BC72D0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2B247-9831-425C-BCDA-5472949E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34407-553A-4BF9-8BAA-BF7C5848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2B76-CA3D-40A0-86CA-4A2BC77A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730C9-058C-4325-B2C9-8CD44CBD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ADF47-8FD6-4C83-8994-6228DD49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550BE-5549-4713-9779-E311A195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860B0-E53A-407F-91E9-135B74BD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98C30-CB14-4917-BD8D-80667F67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283DB-3DC8-4EA4-85BF-0CB501B0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34B72-C54F-4E40-9F82-C8EB7889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DE474-CD79-449F-B706-E0162408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A5358-D00E-47D0-9A1E-F508761F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152C1-25A0-4576-91B6-6C726621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4E4-CD42-44F2-984D-A0874BB5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96704-F210-4FDA-AF10-766B41E2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C60EB-2AF8-4598-B8D2-BF0F1952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73768-E734-4F74-BEC1-6B5D9C1E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7F583-5075-470D-AF00-712A0927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32B0A-A5F0-4ECA-901C-611E1AD9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8C2DB-C420-48E1-9C84-7FABA9B2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D9AC3-08DE-405C-97CE-602E1FE6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0B8E3-E7D1-44C2-AAE2-F71A830D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80FB7-1AE0-4B3E-B6B5-8414D047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CA108-0A5F-434F-9DA9-707A4BDA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22A-ED17-4151-A99C-C7EB41FF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0674F-CCFA-4A9A-9D5A-D7F7AABA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53370-0AA3-401B-BCB7-CA433EFB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D375F-AC7D-4E1D-B118-F92009CB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6A80B-BF10-41EF-9695-7BD8F6E6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FF889-7AC3-4BA2-8BE4-A9D2F4EB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B968F-1645-4DFD-BD99-65F9FF16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F348E-1D94-42C9-B420-5FEAFB27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48EED-28C7-408D-8DB6-7AF47C73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A4E53-D7E4-49F4-8C1C-939758B0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DE51E-548E-4CFE-9CEE-FECA1753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F72-DB9F-48E9-B8B9-67D3C6FB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861C3-9112-4084-8657-0A8CA346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51672-5A2B-4537-8BC3-5BF969CF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799BD-49DE-4BFE-8EFC-3BF0E8CB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8395B-17F2-48D4-B7E1-82A6AA74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B1486-C050-470D-9323-37968EB5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46C58-D546-4A30-BA76-1C1E19E4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2F109-D7D5-4421-99E2-E6ABE0F2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81095-62FC-4396-A8B5-62BAA938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CDA72-438E-431F-94C6-3100D04F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B23E3-653D-43F6-8A1D-C24DAABE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01D9-1659-4B54-BC36-17902E8B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F79DC-AA90-475D-8AD8-25D20F3C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B901F-CBAD-4CC9-829C-9474F23D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91B26-6C12-47DF-B911-FD234CC0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350D0-50E1-4400-B088-154507E3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F2F04-0E47-4D49-9A0C-D96439FE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0E73F-6AEF-49A7-973E-F268356F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8BB22-6430-4B70-9B32-FDE1EFD2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A12F4-2245-4020-9675-EA3EDFC3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6A2D5-CBF2-495F-A00D-F0F8C045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734C4-4360-4BED-BD86-23C1F218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11D5-A13B-4016-AA81-4F56BD778DA9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8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6448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79BB-3AB0-4F52-A3AE-BC5BD172BCF7}" type="slidenum">
              <a:rPr b="0" lang="en-US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7C9E-41BA-440A-877E-5C1E31DED8FB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7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9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10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1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4919-4270-4FED-90D4-E471AB09CF09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12E3-0D17-46D6-8444-DDFBEEDF3AEB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5000-41B1-42FA-8EB2-93A2CC6586D4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7DF8-A45F-42CF-B947-197D12EAC220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1D44-2995-4A28-91F7-79FFDE16551A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7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8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9"/>
            <p:cNvSpPr/>
            <p:nvPr/>
          </p:nvSpPr>
          <p:spPr>
            <a:xfrm flipV="1">
              <a:off x="6566040" y="6015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0"/>
            <p:cNvSpPr/>
            <p:nvPr/>
          </p:nvSpPr>
          <p:spPr>
            <a:xfrm flipV="1">
              <a:off x="6562800" y="36129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A1FC-DAF4-4ACF-A2D2-A6B039E94A34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senchuk@hotmail.com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YCMA – 905 934-9622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Police (NRPS) – 905 688-4111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refighter – 905 684-4311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ourism Niagara – 905 984-3626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peech Pathology – Ms. Senchuk – 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Book Antiqua"/>
                <a:hlinkClick r:id="rId1"/>
              </a:rPr>
              <a:t>csenchuk@hotmail.com</a:t>
            </a: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 May 25</a:t>
            </a:r>
            <a:r>
              <a:rPr b="0" lang="en-US" sz="2400" spc="-1" strike="noStrike" baseline="30000">
                <a:solidFill>
                  <a:srgbClr val="262626"/>
                </a:solidFill>
                <a:latin typeface="Book Antiqua"/>
              </a:rPr>
              <a:t>th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Artist Trisha Romance – 1800 667-8525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Advantage Music and Video – 905 318 2882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Balance Fitness Studio, Virgil – 905 468-5007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ontact Idea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VP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Principa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haplain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pecial Needs Teacher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Wine Industry (winemakers, restaurants)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People who own their own busines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lorists (Cathy Martin Florist 905 468-7557)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Mechanic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(Car) salesman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More Contact Idea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1182600" y="1390680"/>
            <a:ext cx="6778800" cy="211464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698400" y="2247480"/>
            <a:ext cx="77472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A GOAL is something you want to accomplish, or a place in your life that you want to get to.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A short-term goal is something you aim to do in the near future.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A long-term goal looks farther into the future for the date of accomplishment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You need an ACTION PLAN, or steps that you will take, to achieve your goal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Goal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p:transition spd="slow">
    <p:push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698400" y="2247480"/>
            <a:ext cx="774720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Goals should be: </a:t>
            </a: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Reachable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Meaningfu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Goals: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62626"/>
                </a:solidFill>
                <a:latin typeface="Book Antiqua"/>
              </a:rPr>
              <a:t>bring you to action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62626"/>
                </a:solidFill>
                <a:latin typeface="Book Antiqua"/>
              </a:rPr>
              <a:t>give you purpose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62626"/>
                </a:solidFill>
                <a:latin typeface="Book Antiqua"/>
              </a:rPr>
              <a:t>give you confidence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62626"/>
                </a:solidFill>
                <a:latin typeface="Book Antiqua"/>
              </a:rPr>
              <a:t>build your self-esteem (through the achievement of your goals)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Goal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p:transition spd="slow">
    <p:wipe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7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5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80000"/>
              </a:lnSpc>
              <a:spcBef>
                <a:spcPts val="550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62626"/>
                </a:solidFill>
                <a:latin typeface="Book Antiqua"/>
              </a:rPr>
              <a:t>Decide on the goals you have and list them. Write them down in a notebook so you can keep track of them.</a:t>
            </a:r>
            <a:br>
              <a:rPr sz="2200"/>
            </a:br>
            <a:r>
              <a:rPr b="1" lang="en-GB" sz="2200" spc="-1" strike="noStrike">
                <a:solidFill>
                  <a:srgbClr val="262626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434160" indent="-434160">
              <a:lnSpc>
                <a:spcPct val="80000"/>
              </a:lnSpc>
              <a:spcBef>
                <a:spcPts val="550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62626"/>
                </a:solidFill>
                <a:latin typeface="Book Antiqua"/>
              </a:rPr>
              <a:t>Develop a workable action plan to achieve your goals.</a:t>
            </a:r>
            <a:br>
              <a:rPr sz="2200"/>
            </a:br>
            <a:r>
              <a:rPr b="1" lang="en-GB" sz="2200" spc="-1" strike="noStrike">
                <a:solidFill>
                  <a:srgbClr val="262626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434160" indent="-434160">
              <a:lnSpc>
                <a:spcPct val="80000"/>
              </a:lnSpc>
              <a:spcBef>
                <a:spcPts val="550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62626"/>
                </a:solidFill>
                <a:latin typeface="Book Antiqua"/>
              </a:rPr>
              <a:t>Evaluate your progress – are you completing the action steps? Are you recording your progress in a notebook? Have you accomplished your goals?</a:t>
            </a:r>
            <a:br>
              <a:rPr sz="2200"/>
            </a:br>
            <a:r>
              <a:rPr b="1" lang="en-GB" sz="2200" spc="-1" strike="noStrike">
                <a:solidFill>
                  <a:srgbClr val="262626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434160" indent="-434160">
              <a:lnSpc>
                <a:spcPct val="80000"/>
              </a:lnSpc>
              <a:spcBef>
                <a:spcPts val="550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62626"/>
                </a:solidFill>
                <a:latin typeface="Book Antiqua"/>
              </a:rPr>
              <a:t>Revise your goals and plans. After analysing how you are doing, you might need to revise your goals and action steps.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How To Set Short-Term Goal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p:transition spd="slow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151920" y="2247480"/>
            <a:ext cx="8915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476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262626"/>
                </a:solidFill>
                <a:uFillTx/>
                <a:latin typeface="Book Antiqua"/>
              </a:rPr>
              <a:t>Count the Cost</a:t>
            </a:r>
            <a:r>
              <a:rPr b="1" lang="en-GB" sz="1900" spc="-1" strike="noStrike">
                <a:solidFill>
                  <a:srgbClr val="262626"/>
                </a:solidFill>
                <a:latin typeface="Book Antiqua"/>
              </a:rPr>
              <a:t>:</a:t>
            </a:r>
            <a:br>
              <a:rPr sz="1900"/>
            </a:br>
            <a:r>
              <a:rPr b="1" lang="en-GB" sz="1900" spc="-1" strike="noStrike">
                <a:solidFill>
                  <a:srgbClr val="262626"/>
                </a:solidFill>
                <a:latin typeface="Book Antiqua"/>
              </a:rPr>
              <a:t>What will it require to achieve this goal? Having counted the cost – count the benefits!</a:t>
            </a:r>
            <a:br>
              <a:rPr sz="1900"/>
            </a:br>
            <a:r>
              <a:rPr b="1" lang="en-GB" sz="1900" spc="-1" strike="noStrike">
                <a:solidFill>
                  <a:srgbClr val="262626"/>
                </a:solidFill>
                <a:latin typeface="Book Antiqua"/>
              </a:rPr>
              <a:t> </a:t>
            </a:r>
            <a:endParaRPr b="0" lang="en-US" sz="1900" spc="-1" strike="noStrike">
              <a:solidFill>
                <a:srgbClr val="262626"/>
              </a:solidFill>
              <a:latin typeface="Book Antiqua"/>
            </a:endParaRPr>
          </a:p>
          <a:p>
            <a:pPr marL="429480" indent="-429480">
              <a:lnSpc>
                <a:spcPct val="80000"/>
              </a:lnSpc>
              <a:spcBef>
                <a:spcPts val="476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262626"/>
                </a:solidFill>
                <a:uFillTx/>
                <a:latin typeface="Book Antiqua"/>
              </a:rPr>
              <a:t>Put it in Pen</a:t>
            </a:r>
            <a:r>
              <a:rPr b="1" lang="en-GB" sz="1900" spc="-1" strike="noStrike">
                <a:solidFill>
                  <a:srgbClr val="262626"/>
                </a:solidFill>
                <a:latin typeface="Book Antiqua"/>
              </a:rPr>
              <a:t>:</a:t>
            </a:r>
            <a:br>
              <a:rPr sz="1900"/>
            </a:br>
            <a:r>
              <a:rPr b="1" lang="en-GB" sz="1900" spc="-1" strike="noStrike">
                <a:solidFill>
                  <a:srgbClr val="262626"/>
                </a:solidFill>
                <a:latin typeface="Book Antiqua"/>
              </a:rPr>
              <a:t>A goal written is 10 times more powerful.</a:t>
            </a:r>
            <a:br>
              <a:rPr sz="1900"/>
            </a:br>
            <a:r>
              <a:rPr b="1" lang="en-GB" sz="1900" spc="-1" strike="noStrike">
                <a:solidFill>
                  <a:srgbClr val="262626"/>
                </a:solidFill>
                <a:latin typeface="Book Antiqua"/>
              </a:rPr>
              <a:t> </a:t>
            </a:r>
            <a:endParaRPr b="0" lang="en-US" sz="1900" spc="-1" strike="noStrike">
              <a:solidFill>
                <a:srgbClr val="262626"/>
              </a:solidFill>
              <a:latin typeface="Book Antiqua"/>
            </a:endParaRPr>
          </a:p>
          <a:p>
            <a:pPr marL="429480" indent="-429480">
              <a:lnSpc>
                <a:spcPct val="80000"/>
              </a:lnSpc>
              <a:spcBef>
                <a:spcPts val="476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262626"/>
                </a:solidFill>
                <a:uFillTx/>
                <a:latin typeface="Book Antiqua"/>
              </a:rPr>
              <a:t>Just Do It</a:t>
            </a:r>
            <a:r>
              <a:rPr b="1" lang="en-GB" sz="1900" spc="-1" strike="noStrike">
                <a:solidFill>
                  <a:srgbClr val="262626"/>
                </a:solidFill>
                <a:latin typeface="Book Antiqua"/>
              </a:rPr>
              <a:t>:</a:t>
            </a:r>
            <a:br>
              <a:rPr sz="1900"/>
            </a:br>
            <a:r>
              <a:rPr b="1" lang="en-GB" sz="1900" spc="-1" strike="noStrike">
                <a:solidFill>
                  <a:srgbClr val="262626"/>
                </a:solidFill>
                <a:latin typeface="Book Antiqua"/>
              </a:rPr>
              <a:t>STOP PROCRASTINATING!! Just start working towards your goals!!</a:t>
            </a:r>
            <a:endParaRPr b="0" lang="en-US" sz="1900" spc="-1" strike="noStrike">
              <a:solidFill>
                <a:srgbClr val="262626"/>
              </a:solidFill>
              <a:latin typeface="Book Antiqua"/>
            </a:endParaRPr>
          </a:p>
          <a:p>
            <a:pPr marL="429480" indent="-429480">
              <a:lnSpc>
                <a:spcPct val="80000"/>
              </a:lnSpc>
              <a:spcBef>
                <a:spcPts val="476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Book Antiqua"/>
            </a:endParaRPr>
          </a:p>
          <a:p>
            <a:pPr marL="429480" indent="-429480">
              <a:lnSpc>
                <a:spcPct val="80000"/>
              </a:lnSpc>
              <a:spcBef>
                <a:spcPts val="476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262626"/>
                </a:solidFill>
                <a:uFillTx/>
                <a:latin typeface="Book Antiqua"/>
              </a:rPr>
              <a:t>Use Momentous Moments</a:t>
            </a:r>
            <a:r>
              <a:rPr b="1" lang="en-GB" sz="1900" spc="-1" strike="noStrike">
                <a:solidFill>
                  <a:srgbClr val="262626"/>
                </a:solidFill>
                <a:latin typeface="Book Antiqua"/>
              </a:rPr>
              <a:t>:</a:t>
            </a:r>
            <a:br>
              <a:rPr sz="1900"/>
            </a:br>
            <a:r>
              <a:rPr b="1" lang="en-GB" sz="1900" spc="-1" strike="noStrike">
                <a:solidFill>
                  <a:srgbClr val="262626"/>
                </a:solidFill>
                <a:latin typeface="Book Antiqua"/>
              </a:rPr>
              <a:t>Certain moments in life contain momentum and power. The key is to use these moments in goal setting.</a:t>
            </a:r>
            <a:endParaRPr b="0" lang="en-US" sz="1900" spc="-1" strike="noStrike">
              <a:solidFill>
                <a:srgbClr val="262626"/>
              </a:solidFill>
              <a:latin typeface="Book Antiqua"/>
            </a:endParaRPr>
          </a:p>
          <a:p>
            <a:pPr marL="429480" indent="-429480">
              <a:lnSpc>
                <a:spcPct val="80000"/>
              </a:lnSpc>
              <a:spcBef>
                <a:spcPts val="476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Book Antiqua"/>
            </a:endParaRPr>
          </a:p>
          <a:p>
            <a:pPr marL="429480" indent="-429480">
              <a:lnSpc>
                <a:spcPct val="80000"/>
              </a:lnSpc>
              <a:spcBef>
                <a:spcPts val="476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262626"/>
                </a:solidFill>
                <a:uFillTx/>
                <a:latin typeface="Book Antiqua"/>
              </a:rPr>
              <a:t>Rope It Up!!</a:t>
            </a:r>
            <a:br>
              <a:rPr sz="1900"/>
            </a:br>
            <a:r>
              <a:rPr b="1" lang="en-GB" sz="1900" spc="-1" strike="noStrike">
                <a:solidFill>
                  <a:srgbClr val="262626"/>
                </a:solidFill>
                <a:latin typeface="Book Antiqua"/>
              </a:rPr>
              <a:t>You will accomplish much more in life if you will rope up and borrow strength from others.</a:t>
            </a:r>
            <a:endParaRPr b="0" lang="en-US" sz="19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The 5 Keys To </a:t>
            </a:r>
            <a:br>
              <a:rPr sz="5400"/>
            </a:b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Goal-Setting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p:transition spd="slow">
    <p:cover dir="l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2:23:54Z</dcterms:created>
  <dc:creator>Biega, Sarah</dc:creator>
  <dc:description/>
  <dc:language>en-US</dc:language>
  <cp:lastModifiedBy>DEnis Morris</cp:lastModifiedBy>
  <dcterms:modified xsi:type="dcterms:W3CDTF">2012-05-15T13:07:26Z</dcterms:modified>
  <cp:revision>2</cp:revision>
  <dc:subject/>
  <dc:title>Chapter 3 - Goals</dc:title>
</cp:coreProperties>
</file>